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F9D-03DC-4829-A77D-D54070A8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82C-FDB1-4C82-9173-2B5FD824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427-5611-4F4B-B376-10148151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223-66D8-4F5E-ACA2-9115B173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C68C-7547-4C53-939A-5D008B2C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3A5D-6078-48C3-8F5D-C10C42EA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DA28-4E94-4FCE-9B73-59FA9130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B4AB-9842-4412-A934-EDBA7D05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A722-8530-472C-9917-39128035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42E5-D8B0-45C0-BF3A-3B3318AB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5B88-141F-47A3-B027-094B2CDE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A9B-A38A-4706-B04B-D6AF28D7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11B5-8F0A-4CB8-BD57-5AC18C4A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9A30-2075-4F08-859C-B6C0AE69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F0B3-01AC-4781-980D-6ED16D98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052D-D11C-464A-8341-D92E1192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58EF-DB29-4284-8191-4166AC1D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794-F71A-4C87-9ABD-8E3FE426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813-D700-4DC9-B41E-CEF30392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43E-432E-4BA1-A868-9554CE5C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07A-6870-4204-A292-2FFF3BFF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F35-2D5E-476F-BA90-FEE9E1FA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D3B-D5B0-4D4A-A1E1-AF16A51A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2E7-F269-4E7E-8559-88E66419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488D-CE11-4D46-81B6-210124DFA50E}" type="slidenum">
              <a:rPr b="0" lang="en-NZ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A73B-B2E8-47C8-A3FF-288C60E21C3C}" type="slidenum">
              <a:rPr b="0" lang="en-NZ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Trevor, Gareth, Ju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Virtual A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50 virtual ants incorporating motion detection have been engaging visitors to the Otago Museum Natures Gallery for 5 week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Cityscap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Connecting people with their heritage and community through our S.H.P(stupidly huge panorama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We have delivered the virtual ant project to the Otago Museum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Book Antiqua"/>
              </a:rPr>
              <a:t>(search virtual ants on youtube.com or go to Otago Museum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3" descr="youtube.JPG"/>
          <p:cNvPicPr/>
          <p:nvPr/>
        </p:nvPicPr>
        <p:blipFill>
          <a:blip r:embed="rId2"/>
          <a:stretch/>
        </p:blipFill>
        <p:spPr>
          <a:xfrm>
            <a:off x="1928880" y="2857680"/>
            <a:ext cx="542916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3" descr="delivery.JPG"/>
          <p:cNvPicPr/>
          <p:nvPr/>
        </p:nvPicPr>
        <p:blipFill>
          <a:blip r:embed="rId2"/>
          <a:stretch/>
        </p:blipFill>
        <p:spPr>
          <a:xfrm>
            <a:off x="1752480" y="2244600"/>
            <a:ext cx="56390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81532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Book Antiqua"/>
              </a:rPr>
              <a:t>We are experimenting with different input device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mouse.JPG"/>
          <p:cNvPicPr/>
          <p:nvPr/>
        </p:nvPicPr>
        <p:blipFill>
          <a:blip r:embed="rId2"/>
          <a:stretch/>
        </p:blipFill>
        <p:spPr>
          <a:xfrm>
            <a:off x="1214280" y="2357280"/>
            <a:ext cx="2067120" cy="196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p55.jpg"/>
          <p:cNvPicPr/>
          <p:nvPr/>
        </p:nvPicPr>
        <p:blipFill>
          <a:blip r:embed="rId3"/>
          <a:stretch/>
        </p:blipFill>
        <p:spPr>
          <a:xfrm>
            <a:off x="3571920" y="2357280"/>
            <a:ext cx="214308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225360" y="103320"/>
            <a:ext cx="8467920" cy="1323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Waiting on the data glo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Still experimenting with moving images aroun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12:46Z</dcterms:created>
  <dc:creator>Default-User</dc:creator>
  <dc:description/>
  <dc:language>en-US</dc:language>
  <cp:lastModifiedBy>Default-User</cp:lastModifiedBy>
  <dcterms:modified xsi:type="dcterms:W3CDTF">2009-07-20T22:41:51Z</dcterms:modified>
  <cp:revision>3</cp:revision>
  <dc:subject/>
  <dc:title>AntWall</dc:title>
</cp:coreProperties>
</file>